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4B5-84F9-4251-B0C0-1C8EE9D9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319-CE1B-467B-9020-DA39F677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9E1-1497-4F85-AACC-73FAABC9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284-EE03-47EE-BDED-98623094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2B5-D22F-420B-8649-4782A5F7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38A-0BE5-49FD-8E4D-98B7ABDC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78D-E97E-4F6C-B976-38F71310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6A7-D7FD-4CAA-9C9E-BD88B01E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D71-2A61-4718-A028-9D7BF833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9AC-E642-4B8D-B018-9083F23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AAE-F7DD-4546-B66E-53C2BAD1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5C1-B12D-430F-BDA9-C743DAAB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783C-0884-45D2-B405-25EE29A4C9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TWOOD                               UPHALL  STATION                           WHITEVALE  1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2" descr="Titwood 1.jpg"/>
          <p:cNvPicPr/>
          <p:nvPr/>
        </p:nvPicPr>
        <p:blipFill>
          <a:blip r:embed="rId1"/>
          <a:stretch/>
        </p:blipFill>
        <p:spPr>
          <a:xfrm>
            <a:off x="415800" y="47628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Whitevale 175th.jpg"/>
          <p:cNvPicPr/>
          <p:nvPr/>
        </p:nvPicPr>
        <p:blipFill>
          <a:blip r:embed="rId2"/>
          <a:stretch/>
        </p:blipFill>
        <p:spPr>
          <a:xfrm>
            <a:off x="3728880" y="692280"/>
            <a:ext cx="1074960" cy="103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Uphall Station 1.JPG"/>
          <p:cNvPicPr/>
          <p:nvPr/>
        </p:nvPicPr>
        <p:blipFill>
          <a:blip r:embed="rId3"/>
          <a:stretch/>
        </p:blipFill>
        <p:spPr>
          <a:xfrm>
            <a:off x="2000160" y="620640"/>
            <a:ext cx="10796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8-24T14:43:43Z</dcterms:modified>
  <cp:revision>89</cp:revision>
  <dc:subject/>
  <dc:title>Slide 1</dc:title>
</cp:coreProperties>
</file>